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3984-45C6-47AE-9112-E79EF3D3A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0F5E-99EC-4EC1-8CA2-E29D6C1DC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E28F-8F1F-4DEC-AD9A-16D47B12D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3D8D-03BB-4A61-8802-9272C9BBC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05C22-FF4E-4CE2-9127-407EDF406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5107F-5672-4E43-87B7-067D41A73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2264E-0011-4177-AF01-8483EDF3A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FE1F0-03F6-4B56-8896-F10FC697F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690A5-8C8A-4286-8A60-EF268C6E9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0720" y="3049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18D3E-96EA-4ED6-A855-346261901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100F9-8121-4626-B664-E448F892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0014-45EA-4D93-A4D5-0E46A05B0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4095F-9F89-46C8-9F24-6D6E2A5C6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1437B-5DA7-4443-AC07-9475ED8D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66E0D-89EC-4037-9337-BD5C5C777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27E78-3B20-4C47-BA73-B44A8FD7A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7E6A1-5203-426F-A43B-659166C7D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E9CA-6AA7-406D-BDBB-177C6307C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6253-D5E5-4F18-9526-6B4A0FF13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A88D-0189-46C4-BEE3-6A005F963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720" y="3049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C2A7-328F-456C-8760-1FD1880A9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8D37-8ADE-4573-B379-2A190BC0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0B8E-D73C-4EB3-ACB1-A0691DAC8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81CB-1B78-4DDB-A0C3-65A53B322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alphaModFix amt="40000"/>
          </a:blip>
          <a:stretch/>
        </p:blipFill>
        <p:spPr>
          <a:xfrm>
            <a:off x="7315200" y="5510160"/>
            <a:ext cx="1828800" cy="1347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090EF-51EA-4B15-8ADA-455733B049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8440" y="2967120"/>
            <a:ext cx="8026560" cy="0"/>
          </a:xfrm>
          <a:prstGeom prst="line">
            <a:avLst/>
          </a:prstGeom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479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45DD9-2D40-40E3-A981-A75E431FD3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sourceforge.net/" TargetMode="Externa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5640" y="914400"/>
            <a:ext cx="6095880" cy="160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GBrowse: Generic Genome Browser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May 2003 Updat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Lincoln Stein, CSH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2133720" cy="15732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808080"/>
                </a:solidFill>
                <a:latin typeface="comic"/>
              </a:rPr>
              <a:t>Coming real soon now</a:t>
            </a:r>
            <a:endParaRPr b="0" lang="en-US" sz="8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Synteny Browser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1726" t="26410" r="2073" b="11776"/>
          <a:stretch/>
        </p:blipFill>
        <p:spPr>
          <a:xfrm>
            <a:off x="228600" y="1752480"/>
            <a:ext cx="8769240" cy="4392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rcRect l="2350" t="15911" r="4024" b="9518"/>
          <a:stretch/>
        </p:blipFill>
        <p:spPr>
          <a:xfrm>
            <a:off x="380880" y="1523880"/>
            <a:ext cx="8534520" cy="53341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Feature Filtering &amp; Coloring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ltering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Limit feature displays to those matching selected attributes.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oloring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olor background of features matching selected attributes.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Remote Annotation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ull DAS Suppor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Multiple databases merged into one display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Multiple database types merged onto display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Local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Remot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lat fil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Relational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redits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50040" y="1523880"/>
            <a:ext cx="233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entury Schoolbook"/>
              </a:rPr>
              <a:t>CSH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huly Avrah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cott C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898640" y="2895480"/>
            <a:ext cx="257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entury Schoolbook"/>
              </a:rPr>
              <a:t>BDG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hris Mung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hengQiang Sh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47720" y="5938920"/>
            <a:ext cx="1523880" cy="5364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071520" y="5973840"/>
            <a:ext cx="43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stellar"/>
              </a:rPr>
              <a:t>http://www.gmod.or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1523880"/>
            <a:ext cx="223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entury Schoolbook"/>
              </a:rPr>
              <a:t>I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Paul Edelfs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Robert Hubl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92880" y="4375080"/>
            <a:ext cx="237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entury Schoolbook"/>
              </a:rPr>
              <a:t>HGMP-RC Fug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hawn Ho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186520" y="2927520"/>
            <a:ext cx="220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entury Schoolbook"/>
              </a:rPr>
              <a:t>Elsewh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Marc Colisim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Marc Logg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808080"/>
                </a:solidFill>
                <a:latin typeface="comic"/>
              </a:rPr>
              <a:t>New Features</a:t>
            </a:r>
            <a:endParaRPr b="0" lang="en-US" sz="80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Database Adaptors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Bio::DB::GFF Schema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MySQL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PostgreSQL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Oracl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ext fil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hado Schema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PostgreSQL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BioSQL Schema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MySQL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MBL Proxy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Multiple Alignment Display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2056" t="20835" r="2941" b="14584"/>
          <a:stretch/>
        </p:blipFill>
        <p:spPr>
          <a:xfrm>
            <a:off x="685800" y="1676520"/>
            <a:ext cx="8153280" cy="47242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rcRect l="2056" t="17742" r="2056" b="18819"/>
          <a:stretch/>
        </p:blipFill>
        <p:spPr>
          <a:xfrm>
            <a:off x="685800" y="1676520"/>
            <a:ext cx="8229600" cy="44956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rcRect l="2056" t="17742" r="2941" b="12367"/>
          <a:stretch/>
        </p:blipFill>
        <p:spPr>
          <a:xfrm>
            <a:off x="685800" y="1676520"/>
            <a:ext cx="8153280" cy="49528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Histograms &amp; XY Plots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7620120" cy="24667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onfigurable Overview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945" t="28889" r="2830" b="13638"/>
          <a:stretch/>
        </p:blipFill>
        <p:spPr>
          <a:xfrm>
            <a:off x="609480" y="1905120"/>
            <a:ext cx="7772400" cy="37335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Flip Coordinates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2405" t="28555" r="2752" b="24645"/>
          <a:stretch/>
        </p:blipFill>
        <p:spPr>
          <a:xfrm>
            <a:off x="233280" y="1897200"/>
            <a:ext cx="8645760" cy="33429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rcRect l="2334" t="31069" r="2910" b="19112"/>
          <a:stretch/>
        </p:blipFill>
        <p:spPr>
          <a:xfrm>
            <a:off x="228600" y="1905120"/>
            <a:ext cx="8637480" cy="35589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Plugin Layer for Gene Predictors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2941" t="17742" r="3831" b="13444"/>
          <a:stretch/>
        </p:blipFill>
        <p:spPr>
          <a:xfrm>
            <a:off x="762120" y="1600200"/>
            <a:ext cx="8001000" cy="48769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Lots of New Glyphs</a:t>
            </a: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plice acceptor/donor glyph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Microarray red/green box glyph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ytogenetic band glyph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X/Y graph glyph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6:36Z</dcterms:created>
  <dc:creator>Authorized User</dc:creator>
  <dc:description/>
  <dc:language>en-US</dc:language>
  <cp:lastModifiedBy>Lincoln Stein</cp:lastModifiedBy>
  <cp:lastPrinted>1998-10-28T21:29:29Z</cp:lastPrinted>
  <dcterms:modified xsi:type="dcterms:W3CDTF">2003-05-06T11:16:38Z</dcterms:modified>
  <cp:revision>534</cp:revision>
  <dc:subject/>
  <dc:title>Training</dc:title>
</cp:coreProperties>
</file>